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jpeg" ContentType="image/jpeg"/>
  <Override PartName="/ppt/media/image50.gif" ContentType="image/gif"/>
  <Override PartName="/ppt/media/image54.wmf" ContentType="image/x-wmf"/>
  <Override PartName="/ppt/media/image57.jpeg" ContentType="image/jpeg"/>
  <Override PartName="/ppt/media/image43.png" ContentType="image/png"/>
  <Override PartName="/ppt/media/TYPE.WAV" ContentType="audio/x-wav"/>
  <Override PartName="/ppt/media/image41.png" ContentType="image/png"/>
  <Override PartName="/ppt/media/image51.gif" ContentType="image/gif"/>
  <Override PartName="/ppt/media/image40.jpeg" ContentType="image/jpeg"/>
  <Override PartName="/ppt/media/image38.gif" ContentType="image/gif"/>
  <Override PartName="/ppt/media/applause.wav" ContentType="audio/x-wav"/>
  <Override PartName="/ppt/media/image37.jpeg" ContentType="image/jpeg"/>
  <Override PartName="/ppt/media/image20.png" ContentType="image/png"/>
  <Override PartName="/ppt/media/image44.gif" ContentType="image/gif"/>
  <Override PartName="/ppt/media/image34.jpeg" ContentType="image/jpeg"/>
  <Override PartName="/ppt/media/image33.jpeg" ContentType="image/jpeg"/>
  <Override PartName="/ppt/media/image32.jpeg" ContentType="image/jpeg"/>
  <Override PartName="/ppt/media/image30.jpeg" ContentType="image/jpeg"/>
  <Override PartName="/ppt/media/image58.gif" ContentType="image/gif"/>
  <Override PartName="/ppt/media/image22.jpeg" ContentType="image/jpeg"/>
  <Override PartName="/ppt/media/image75.png" ContentType="image/png"/>
  <Override PartName="/ppt/media/image28.jpeg" ContentType="image/jpeg"/>
  <Override PartName="/ppt/media/image24.jpeg" ContentType="image/jpeg"/>
  <Override PartName="/ppt/media/image27.gif" ContentType="image/gif"/>
  <Override PartName="/ppt/media/image31.jpeg" ContentType="image/jpeg"/>
  <Override PartName="/ppt/media/image14.gif" ContentType="image/gif"/>
  <Override PartName="/ppt/media/image49.gif" ContentType="image/gif"/>
  <Override PartName="/ppt/media/image12.gif" ContentType="image/gif"/>
  <Override PartName="/ppt/media/image18.jpeg" ContentType="image/jpeg"/>
  <Override PartName="/ppt/media/image19.png" ContentType="image/png"/>
  <Override PartName="/ppt/media/image71.png" ContentType="image/png"/>
  <Override PartName="/ppt/media/image17.jpeg" ContentType="image/jpeg"/>
  <Override PartName="/ppt/media/chimes.wav" ContentType="audio/x-wav"/>
  <Override PartName="/ppt/media/image76.gif" ContentType="image/gif"/>
  <Override PartName="/ppt/media/image25.jpeg" ContentType="image/jpeg"/>
  <Override PartName="/ppt/media/image42.png" ContentType="image/png"/>
  <Override PartName="/ppt/media/image74.gif" ContentType="image/gif"/>
  <Override PartName="/ppt/media/image46.gif" ContentType="image/gif"/>
  <Override PartName="/ppt/media/image65.jpeg" ContentType="image/jpeg"/>
  <Override PartName="/ppt/media/image8.jpeg" ContentType="image/jpeg"/>
  <Override PartName="/ppt/media/image45.gif" ContentType="image/gif"/>
  <Override PartName="/ppt/media/image66.png" ContentType="image/png"/>
  <Override PartName="/ppt/media/image21.jpeg" ContentType="image/jpeg"/>
  <Override PartName="/ppt/media/image62.gif" ContentType="image/gif"/>
  <Override PartName="/ppt/media/image16.wmf" ContentType="image/x-wmf"/>
  <Override PartName="/ppt/media/image55.png" ContentType="image/png"/>
  <Override PartName="/ppt/media/image73.jpeg" ContentType="image/jpeg"/>
  <Override PartName="/ppt/media/image68.png" ContentType="image/png"/>
  <Override PartName="/ppt/media/image70.png" ContentType="image/png"/>
  <Override PartName="/ppt/media/image69.gif" ContentType="image/gif"/>
  <Override PartName="/ppt/media/image67.png" ContentType="image/png"/>
  <Override PartName="/ppt/media/image64.gif" ContentType="image/gif"/>
  <Override PartName="/ppt/media/image36.jpeg" ContentType="image/jpeg"/>
  <Override PartName="/ppt/media/image63.jpeg" ContentType="image/jpeg"/>
  <Override PartName="/ppt/media/image60.jpeg" ContentType="image/jpeg"/>
  <Override PartName="/ppt/media/image61.gif" ContentType="image/gif"/>
  <Override PartName="/ppt/media/image1.jpeg" ContentType="image/jpeg"/>
  <Override PartName="/ppt/media/image35.jpeg" ContentType="image/jpeg"/>
  <Override PartName="/ppt/media/image9.jpeg" ContentType="image/jpeg"/>
  <Override PartName="/ppt/media/image3.wmf" ContentType="image/x-wmf"/>
  <Override PartName="/ppt/media/image29.jpeg" ContentType="image/jpeg"/>
  <Override PartName="/ppt/media/image39.gif" ContentType="image/gif"/>
  <Override PartName="/ppt/media/image4.jpeg" ContentType="image/jpeg"/>
  <Override PartName="/ppt/media/image5.gif" ContentType="image/gif"/>
  <Override PartName="/ppt/media/image23.jpeg" ContentType="image/jpeg"/>
  <Override PartName="/ppt/media/image7.jpeg" ContentType="image/jpeg"/>
  <Override PartName="/ppt/media/image13.gif" ContentType="image/gif"/>
  <Override PartName="/ppt/media/image52.jpeg" ContentType="image/jpeg"/>
  <Override PartName="/ppt/media/image10.gif" ContentType="image/gif"/>
  <Override PartName="/ppt/media/image26.jpeg" ContentType="image/jpeg"/>
  <Override PartName="/ppt/media/image47.gif" ContentType="image/gif"/>
  <Override PartName="/ppt/media/image53.jpeg" ContentType="image/jpeg"/>
  <Override PartName="/ppt/media/image59.jpeg" ContentType="image/jpeg"/>
  <Override PartName="/ppt/media/image6.png" ContentType="image/png"/>
  <Override PartName="/ppt/media/image15.gif" ContentType="image/gif"/>
  <Override PartName="/ppt/media/image2.png" ContentType="image/png"/>
  <Override PartName="/ppt/media/image72.jpeg" ContentType="image/jpeg"/>
  <Override PartName="/ppt/media/image11.gif" ContentType="image/gif"/>
  <Override PartName="/ppt/media/image4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77BC-03DD-433C-A1A4-FC2E304B1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8F24-2A78-4E4A-A4FA-CBC54DDE4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0E60-14B4-4C53-8E24-A85A96F6C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A5CB-6C83-47F9-AAB4-8AF16F14B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2DD5-5264-496D-883B-E37C3BD04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D4AE-DA45-4C2C-AF91-85337A5AD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6B33-D37B-43F9-BAEE-BDD339BA3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B50F-1D25-4457-8C03-26930F859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D650-66D5-402C-8C50-D285D31B7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D711-9CA1-4097-B1C2-09CC8FDD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7647-7A5F-402B-BB23-4AC48809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08C7-6A16-419D-A593-0F9D1546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C9398-02DA-4EBF-A3A6-6006E3B95FD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2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3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4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png"/><Relationship Id="rId3" Type="http://schemas.openxmlformats.org/officeDocument/2006/relationships/image" Target="../media/image27.gif"/><Relationship Id="rId4" Type="http://schemas.openxmlformats.org/officeDocument/2006/relationships/image" Target="../media/image20.pn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35.jpeg"/><Relationship Id="rId8" Type="http://schemas.openxmlformats.org/officeDocument/2006/relationships/image" Target="../media/image36.jpe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3.xml"/><Relationship Id="rId3" Type="http://schemas.openxmlformats.org/officeDocument/2006/relationships/image" Target="../media/image39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gif"/><Relationship Id="rId2" Type="http://schemas.openxmlformats.org/officeDocument/2006/relationships/image" Target="../media/image4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image" Target="../media/image46.gif"/><Relationship Id="rId3" Type="http://schemas.openxmlformats.org/officeDocument/2006/relationships/image" Target="../media/image47.gif"/><Relationship Id="rId4" Type="http://schemas.openxmlformats.org/officeDocument/2006/relationships/image" Target="../media/image48.gif"/><Relationship Id="rId5" Type="http://schemas.openxmlformats.org/officeDocument/2006/relationships/image" Target="../media/image49.gif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0.gif"/><Relationship Id="rId2" Type="http://schemas.openxmlformats.org/officeDocument/2006/relationships/image" Target="../media/image51.gi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1.gif"/><Relationship Id="rId3" Type="http://schemas.openxmlformats.org/officeDocument/2006/relationships/image" Target="../media/image53.jpeg"/><Relationship Id="rId4" Type="http://schemas.openxmlformats.org/officeDocument/2006/relationships/image" Target="../media/image5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gif"/><Relationship Id="rId5" Type="http://schemas.openxmlformats.org/officeDocument/2006/relationships/image" Target="../media/image59.jpeg"/><Relationship Id="rId6" Type="http://schemas.openxmlformats.org/officeDocument/2006/relationships/image" Target="../media/image60.jpe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1.gif"/><Relationship Id="rId2" Type="http://schemas.openxmlformats.org/officeDocument/2006/relationships/image" Target="../media/image62.gi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image" Target="../media/image46.gif"/><Relationship Id="rId3" Type="http://schemas.openxmlformats.org/officeDocument/2006/relationships/image" Target="../media/image47.gif"/><Relationship Id="rId4" Type="http://schemas.openxmlformats.org/officeDocument/2006/relationships/image" Target="../media/image48.gif"/><Relationship Id="rId5" Type="http://schemas.openxmlformats.org/officeDocument/2006/relationships/image" Target="../media/image49.gif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4.gi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68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9.gif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4.gif"/><Relationship Id="rId2" Type="http://schemas.openxmlformats.org/officeDocument/2006/relationships/image" Target="../media/image74.gif"/><Relationship Id="rId3" Type="http://schemas.openxmlformats.org/officeDocument/2006/relationships/image" Target="../media/image75.png"/><Relationship Id="rId4" Type="http://schemas.openxmlformats.org/officeDocument/2006/relationships/image" Target="../media/image75.png"/><Relationship Id="rId5" Type="http://schemas.openxmlformats.org/officeDocument/2006/relationships/image" Target="../media/image76.gif"/><Relationship Id="rId6" Type="http://schemas.openxmlformats.org/officeDocument/2006/relationships/image" Target="../media/image74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image" Target="../media/image15.gi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1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24000" cy="15573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733920" y="4724280"/>
            <a:ext cx="1908000" cy="1700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7640" y="765000"/>
            <a:ext cx="75247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en-US" sz="6600" spc="-1" strike="noStrike">
                <a:solidFill>
                  <a:srgbClr val="3333cc"/>
                </a:solidFill>
                <a:latin typeface="Times New Roman"/>
              </a:rPr>
              <a:t>Unit  2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Body Languag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38280" y="1600200"/>
            <a:ext cx="4038840" cy="50292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rcRect l="0" t="0" r="-1611" b="-1582"/>
          <a:stretch/>
        </p:blipFill>
        <p:spPr>
          <a:xfrm>
            <a:off x="1066680" y="0"/>
            <a:ext cx="6934320" cy="1600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354120" y="228600"/>
            <a:ext cx="189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Gues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324480" y="1600200"/>
            <a:ext cx="2548080" cy="1523880"/>
          </a:xfrm>
          <a:prstGeom prst="cloudCallout">
            <a:avLst>
              <a:gd name="adj1" fmla="val -106509"/>
              <a:gd name="adj2" fmla="val 38231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e her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3276720" y="-457200"/>
            <a:ext cx="2381040" cy="1600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438280" y="1600200"/>
            <a:ext cx="4038840" cy="5029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rcRect l="0" t="0" r="-1611" b="-1582"/>
          <a:stretch/>
        </p:blipFill>
        <p:spPr>
          <a:xfrm>
            <a:off x="1066680" y="0"/>
            <a:ext cx="6934320" cy="16002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506760" y="304920"/>
            <a:ext cx="189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Gues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1600200"/>
            <a:ext cx="2548080" cy="1523880"/>
          </a:xfrm>
          <a:prstGeom prst="cloudCallout">
            <a:avLst>
              <a:gd name="adj1" fmla="val -106509"/>
              <a:gd name="adj2" fmla="val 38231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luck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3429000" y="-457200"/>
            <a:ext cx="2381400" cy="1600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362320" y="1676520"/>
            <a:ext cx="3962160" cy="49528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rcRect l="0" t="0" r="-1611" b="-1582"/>
          <a:stretch/>
        </p:blipFill>
        <p:spPr>
          <a:xfrm>
            <a:off x="1066680" y="0"/>
            <a:ext cx="6934320" cy="16002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430440" y="304920"/>
            <a:ext cx="189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Gues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324480" y="1600200"/>
            <a:ext cx="2548080" cy="1523880"/>
          </a:xfrm>
          <a:prstGeom prst="cloudCallout">
            <a:avLst>
              <a:gd name="adj1" fmla="val -106509"/>
              <a:gd name="adj2" fmla="val 38231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3429000" y="-457200"/>
            <a:ext cx="2381400" cy="1600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590920" y="1752480"/>
            <a:ext cx="3733560" cy="48769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rcRect l="0" t="0" r="-1611" b="-1582"/>
          <a:stretch/>
        </p:blipFill>
        <p:spPr>
          <a:xfrm>
            <a:off x="1066680" y="0"/>
            <a:ext cx="6934320" cy="16002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506760" y="304920"/>
            <a:ext cx="189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Gues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24480" y="1600200"/>
            <a:ext cx="2548080" cy="1523880"/>
          </a:xfrm>
          <a:prstGeom prst="cloudCallout">
            <a:avLst>
              <a:gd name="adj1" fmla="val -106509"/>
              <a:gd name="adj2" fmla="val 38231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don’t know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3429000" y="-380880"/>
            <a:ext cx="2381400" cy="1600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066680" y="0"/>
            <a:ext cx="8077320" cy="5715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352680" y="579132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 hu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76920" y="6019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48320" y="5791320"/>
            <a:ext cx="22860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---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rcRect l="0" t="0" r="-1611" b="-1582"/>
          <a:stretch/>
        </p:blipFill>
        <p:spPr>
          <a:xfrm>
            <a:off x="1066680" y="0"/>
            <a:ext cx="6934320" cy="16002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429000" y="228600"/>
            <a:ext cx="313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Gues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304920"/>
            <a:ext cx="2590920" cy="2209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3429000" y="-457200"/>
            <a:ext cx="2381400" cy="1600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2268360" y="1566720"/>
            <a:ext cx="4967640" cy="49514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65280" y="5435640"/>
            <a:ext cx="98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575800" y="-85680"/>
            <a:ext cx="288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Facial  ex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4038480"/>
            <a:ext cx="2666880" cy="28195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523880" y="3276720"/>
            <a:ext cx="12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ng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66880" y="3276720"/>
            <a:ext cx="117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657600" y="32767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jo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3440" y="3276720"/>
            <a:ext cx="132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o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62080" y="3124080"/>
            <a:ext cx="167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ntem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轻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40" y="3276720"/>
            <a:ext cx="150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urpr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72920" y="3124080"/>
            <a:ext cx="125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isg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厌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514600" y="380880"/>
            <a:ext cx="3200400" cy="27432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5715000" y="0"/>
            <a:ext cx="3429000" cy="3124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0" y="4038480"/>
            <a:ext cx="2666880" cy="28195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2362320" y="4038480"/>
            <a:ext cx="2438280" cy="28195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6553080" y="4114800"/>
            <a:ext cx="2590920" cy="27432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0" y="0"/>
            <a:ext cx="2666880" cy="31240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858000" y="3962520"/>
            <a:ext cx="533520" cy="533160"/>
          </a:xfrm>
          <a:prstGeom prst="line">
            <a:avLst/>
          </a:prstGeom>
          <a:ln cap="sq"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8"/>
          <a:stretch/>
        </p:blipFill>
        <p:spPr>
          <a:xfrm>
            <a:off x="4343400" y="4191120"/>
            <a:ext cx="2438280" cy="26668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943600" y="3124080"/>
            <a:ext cx="0" cy="10670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467480" y="3124080"/>
            <a:ext cx="0" cy="10670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95680" y="3124080"/>
            <a:ext cx="0" cy="10670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81280" y="3124080"/>
            <a:ext cx="0" cy="10670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743200" y="3124080"/>
            <a:ext cx="0" cy="10670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23880" y="3124080"/>
            <a:ext cx="0" cy="10670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3733920"/>
            <a:ext cx="2057400" cy="1447560"/>
          </a:xfrm>
          <a:prstGeom prst="line">
            <a:avLst/>
          </a:prstGeom>
          <a:ln cap="sq"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2438280" y="2209680"/>
            <a:ext cx="1219320" cy="1067040"/>
          </a:xfrm>
          <a:prstGeom prst="line">
            <a:avLst/>
          </a:prstGeom>
          <a:ln cap="sq"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1905120"/>
            <a:ext cx="1600200" cy="1600200"/>
          </a:xfrm>
          <a:prstGeom prst="line">
            <a:avLst/>
          </a:prstGeom>
          <a:ln cap="sq"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114800" y="3733920"/>
            <a:ext cx="838080" cy="1828800"/>
          </a:xfrm>
          <a:prstGeom prst="line">
            <a:avLst/>
          </a:prstGeom>
          <a:ln cap="sq"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458200" y="2209680"/>
            <a:ext cx="380880" cy="1143000"/>
          </a:xfrm>
          <a:prstGeom prst="line">
            <a:avLst/>
          </a:prstGeom>
          <a:ln cap="sq"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3733560"/>
            <a:ext cx="3581280" cy="1143000"/>
          </a:xfrm>
          <a:prstGeom prst="line">
            <a:avLst/>
          </a:prstGeom>
          <a:ln cap="sq"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500200" y="1468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59040" y="30225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1447920"/>
            <a:ext cx="2514600" cy="1981080"/>
          </a:xfrm>
          <a:prstGeom prst="flowChartProcess">
            <a:avLst/>
          </a:prstGeom>
          <a:solidFill>
            <a:srgbClr val="ffffff"/>
          </a:solidFill>
          <a:ln cap="sq"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3920" y="1523880"/>
            <a:ext cx="118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9320" y="2438280"/>
            <a:ext cx="246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body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48320" y="609480"/>
            <a:ext cx="75960" cy="3962520"/>
          </a:xfrm>
          <a:custGeom>
            <a:avLst/>
            <a:gdLst>
              <a:gd name="textAreaLeft" fmla="*/ 48600 w 75960"/>
              <a:gd name="textAreaRight" fmla="*/ 76320 w 75960"/>
              <a:gd name="textAreaTop" fmla="*/ 103320 h 3962520"/>
              <a:gd name="textAreaBottom" fmla="*/ 3859200 h 3962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920" y="1828800"/>
            <a:ext cx="13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p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19520" y="2514600"/>
            <a:ext cx="1828800" cy="0"/>
          </a:xfrm>
          <a:prstGeom prst="line">
            <a:avLst/>
          </a:prstGeom>
          <a:ln cap="sq" w="5724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091840" y="49860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ou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30640" y="2133720"/>
            <a:ext cx="135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opin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65640" y="4079880"/>
            <a:ext cx="12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feel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2627280" y="620640"/>
            <a:ext cx="4229280" cy="685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50760">
                  <a:solidFill>
                    <a:srgbClr val="333399"/>
                  </a:solidFill>
                  <a:miter/>
                </a:ln>
                <a:solidFill>
                  <a:srgbClr val="000080">
                    <a:alpha val="54000"/>
                  </a:srgbClr>
                </a:solidFill>
                <a:latin typeface="幼圆"/>
              </a:rPr>
              <a:t>Body talks</a:t>
            </a:r>
            <a:endParaRPr b="1" i="1" lang="en-US" sz="5400" spc="1" strike="noStrike">
              <a:ln w="50760">
                <a:solidFill>
                  <a:srgbClr val="333399"/>
                </a:solidFill>
                <a:miter/>
              </a:ln>
              <a:solidFill>
                <a:srgbClr val="000080">
                  <a:alpha val="54000"/>
                </a:srgbClr>
              </a:solidFill>
              <a:latin typeface="幼圆"/>
              <a:ea typeface="幼圆"/>
            </a:endParaRPr>
          </a:p>
        </p:txBody>
      </p:sp>
      <p:sp>
        <p:nvSpPr>
          <p:cNvPr id="173" name=""/>
          <p:cNvSpPr/>
          <p:nvPr/>
        </p:nvSpPr>
        <p:spPr>
          <a:xfrm>
            <a:off x="307440" y="2895480"/>
            <a:ext cx="856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21"/>
                </a:solidFill>
                <a:latin typeface="Times New Roman"/>
              </a:rPr>
              <a:t>Do people from different part of the worl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21"/>
                </a:solidFill>
                <a:latin typeface="Times New Roman"/>
              </a:rPr>
              <a:t>use the same body languag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819520" y="457200"/>
            <a:ext cx="254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ski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676520"/>
            <a:ext cx="9325080" cy="34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21"/>
                </a:solidFill>
                <a:latin typeface="Times New Roman"/>
              </a:rPr>
              <a:t>What’s the main idea of each paragraph</a:t>
            </a:r>
            <a:r>
              <a:rPr b="1" lang="en-US" sz="3600" spc="-1" strike="noStrike">
                <a:solidFill>
                  <a:srgbClr val="ffff21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21"/>
                </a:solidFill>
                <a:latin typeface="Times New Roman"/>
              </a:rPr>
              <a:t>Pay attention to the </a:t>
            </a:r>
            <a:r>
              <a:rPr b="1" lang="en-US" sz="4000" spc="-1" strike="noStrike" u="sng">
                <a:solidFill>
                  <a:srgbClr val="ffff21"/>
                </a:solidFill>
                <a:uFillTx/>
                <a:latin typeface="Times New Roman"/>
              </a:rPr>
              <a:t>first</a:t>
            </a:r>
            <a:r>
              <a:rPr b="1" lang="en-US" sz="4000" spc="-1" strike="noStrike">
                <a:solidFill>
                  <a:srgbClr val="ffff21"/>
                </a:solidFill>
                <a:latin typeface="Times New Roman"/>
              </a:rPr>
              <a:t> and </a:t>
            </a:r>
            <a:r>
              <a:rPr b="1" lang="en-US" sz="4000" spc="-1" strike="noStrike" u="sng">
                <a:solidFill>
                  <a:srgbClr val="ffff21"/>
                </a:solidFill>
                <a:uFillTx/>
                <a:latin typeface="Times New Roman"/>
              </a:rPr>
              <a:t>last</a:t>
            </a:r>
            <a:r>
              <a:rPr b="1" lang="en-US" sz="4000" spc="-1" strike="noStrike">
                <a:solidFill>
                  <a:srgbClr val="ffff21"/>
                </a:solidFill>
                <a:latin typeface="Times New Roman"/>
              </a:rPr>
              <a:t> senten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0" y="5334120"/>
            <a:ext cx="914400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676520" y="1066680"/>
          <a:ext cx="4876560" cy="28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066680"/>
                    <a:ext cx="487656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1676520" y="4191120"/>
            <a:ext cx="60958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Clapping one’s hand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33720" y="495288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-----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welco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08000" y="620640"/>
            <a:ext cx="12999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ra 1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ra 2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ra 3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ra 4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ra 5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334160" y="509760"/>
            <a:ext cx="774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e communicate with people not onl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y words but also by body languag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76200" y="1700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488600" y="1716120"/>
            <a:ext cx="754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dy language varies from culture t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ultu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377360" y="2959200"/>
            <a:ext cx="758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ame body language has differ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eanings in some different countri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58360" y="4443480"/>
            <a:ext cx="574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me gestures are univers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82320" y="5407200"/>
            <a:ext cx="782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mile is the best example of universal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nderstoo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dy languag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351080" y="476280"/>
            <a:ext cx="775800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Body languag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403280" y="1844640"/>
            <a:ext cx="7740720" cy="2288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 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Differe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98600" y="4568760"/>
            <a:ext cx="7745400" cy="2288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Universal gestures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476360" y="2205000"/>
            <a:ext cx="216000" cy="136836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14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03280" y="4797360"/>
            <a:ext cx="216000" cy="136836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14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42280" y="189000"/>
            <a:ext cx="8936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What different meanings do the following ges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have in different countr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1360" y="1484280"/>
            <a:ext cx="24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eye cont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3520" y="2205000"/>
            <a:ext cx="23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thumbs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14800" y="2781360"/>
            <a:ext cx="819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making a circle with one’s thumb and index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0280" y="3789360"/>
            <a:ext cx="828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moving the index finger in a circle in front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88600" y="4869000"/>
            <a:ext cx="59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 nodding or shaking one’s h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rId1" action="ppaction://hlinksldjump"/>
          </p:cNvPr>
          <p:cNvSpPr/>
          <p:nvPr/>
        </p:nvSpPr>
        <p:spPr>
          <a:xfrm>
            <a:off x="3144960" y="1697040"/>
            <a:ext cx="360360" cy="360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rId2" action="ppaction://hlinksldjump"/>
          </p:cNvPr>
          <p:cNvSpPr/>
          <p:nvPr/>
        </p:nvSpPr>
        <p:spPr>
          <a:xfrm>
            <a:off x="2992320" y="2382840"/>
            <a:ext cx="360360" cy="360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09680" y="3429000"/>
            <a:ext cx="360360" cy="360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14600" y="4419720"/>
            <a:ext cx="360360" cy="360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553080" y="5049720"/>
            <a:ext cx="360360" cy="360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7236000" y="765000"/>
            <a:ext cx="1368360" cy="1295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cce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rcRect l="54130" t="0" r="0" b="0"/>
          <a:stretch/>
        </p:blipFill>
        <p:spPr>
          <a:xfrm>
            <a:off x="324000" y="1413000"/>
            <a:ext cx="2808000" cy="2895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3" name=""/>
          <p:cNvGraphicFramePr/>
          <p:nvPr/>
        </p:nvGraphicFramePr>
        <p:xfrm>
          <a:off x="324000" y="404640"/>
          <a:ext cx="8569080" cy="5688000"/>
        </p:xfrm>
        <a:graphic>
          <a:graphicData uri="http://schemas.openxmlformats.org/drawingml/2006/table">
            <a:tbl>
              <a:tblPr/>
              <a:tblGrid>
                <a:gridCol w="2855880"/>
                <a:gridCol w="1968480"/>
                <a:gridCol w="3744720"/>
              </a:tblGrid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stu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ntr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an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me countr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her countr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"/>
          <p:cNvSpPr/>
          <p:nvPr/>
        </p:nvSpPr>
        <p:spPr>
          <a:xfrm>
            <a:off x="5292720" y="1341360"/>
            <a:ext cx="3600360" cy="244476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ccecff"/>
              </a:gs>
            </a:gsLst>
            <a:lin ang="5400000"/>
          </a:gradFill>
          <a:ln cap="rnd" w="0">
            <a:solidFill>
              <a:srgbClr val="ccecff"/>
            </a:solidFill>
            <a:custDash>
              <a:ds d="100000" sp="1000"/>
            </a:custDash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00"/>
                </a:solidFill>
                <a:latin typeface="Times New Roman"/>
              </a:rPr>
              <a:t>a way to sh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00"/>
                </a:solidFill>
                <a:latin typeface="Times New Roman"/>
              </a:rPr>
              <a:t>one’s inter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508720" y="4005360"/>
            <a:ext cx="331128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00"/>
                </a:solidFill>
                <a:latin typeface="Times New Roman"/>
              </a:rPr>
              <a:t>rude o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00"/>
                </a:solidFill>
                <a:latin typeface="Times New Roman"/>
              </a:rPr>
              <a:t>disrespectf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70880" y="4724280"/>
            <a:ext cx="235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ye cont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0" y="6095880"/>
            <a:ext cx="1015920" cy="7621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8128080" y="6095880"/>
            <a:ext cx="1015920" cy="762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ccecff"/>
            </a:gs>
            <a:gs pos="100000">
              <a:srgbClr val="99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"/>
          <p:cNvGraphicFramePr/>
          <p:nvPr/>
        </p:nvGraphicFramePr>
        <p:xfrm>
          <a:off x="250920" y="549360"/>
          <a:ext cx="8642160" cy="6011640"/>
        </p:xfrm>
        <a:graphic>
          <a:graphicData uri="http://schemas.openxmlformats.org/drawingml/2006/table">
            <a:tbl>
              <a:tblPr/>
              <a:tblGrid>
                <a:gridCol w="2881080"/>
                <a:gridCol w="2880000"/>
                <a:gridCol w="2881080"/>
              </a:tblGrid>
              <a:tr h="116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stu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ntr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an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216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 U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d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4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rman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pa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0" name=""/>
          <p:cNvSpPr/>
          <p:nvPr/>
        </p:nvSpPr>
        <p:spPr>
          <a:xfrm>
            <a:off x="6156360" y="1844640"/>
            <a:ext cx="259236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great o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good jo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84720" y="4365720"/>
            <a:ext cx="2664000" cy="20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     </a:t>
            </a:r>
            <a:r>
              <a:rPr b="1" i="1" lang="en-US" sz="4000" spc="-1" strike="noStrike">
                <a:solidFill>
                  <a:srgbClr val="800000"/>
                </a:solidFill>
                <a:latin typeface="Times New Roman"/>
              </a:rPr>
              <a:t>the number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00"/>
                </a:solidFill>
                <a:latin typeface="Times New Roman"/>
              </a:rPr>
              <a:t>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2286000" cy="22320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468360" y="4508640"/>
            <a:ext cx="227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umbs 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28080" y="6095880"/>
            <a:ext cx="1015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809880" y="3276720"/>
            <a:ext cx="17528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Nige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322200" y="549360"/>
          <a:ext cx="8353440" cy="5597280"/>
        </p:xfrm>
        <a:graphic>
          <a:graphicData uri="http://schemas.openxmlformats.org/drawingml/2006/table">
            <a:tbl>
              <a:tblPr/>
              <a:tblGrid>
                <a:gridCol w="2784600"/>
                <a:gridCol w="2784240"/>
                <a:gridCol w="278460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stu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ntr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an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st countr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K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ne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a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d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7" name=""/>
          <p:cNvSpPr/>
          <p:nvPr/>
        </p:nvSpPr>
        <p:spPr>
          <a:xfrm>
            <a:off x="3276720" y="2276640"/>
            <a:ext cx="2590560" cy="86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Jap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227640" y="3284640"/>
            <a:ext cx="230508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Ze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419640" y="4221000"/>
            <a:ext cx="223200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Braz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419640" y="5229360"/>
            <a:ext cx="230472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German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258920" y="1557360"/>
            <a:ext cx="974520" cy="23623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83240" y="3789360"/>
            <a:ext cx="2995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king a circ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ith one’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umb an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dex fin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8128080" y="6095880"/>
            <a:ext cx="1015920" cy="762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cce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468360" y="404640"/>
          <a:ext cx="8280360" cy="5400720"/>
        </p:xfrm>
        <a:graphic>
          <a:graphicData uri="http://schemas.openxmlformats.org/drawingml/2006/table">
            <a:tbl>
              <a:tblPr/>
              <a:tblGrid>
                <a:gridCol w="2951280"/>
                <a:gridCol w="2570040"/>
                <a:gridCol w="2759040"/>
              </a:tblGrid>
              <a:tr h="153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stu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ntr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an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5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ving the index finger in a circle in front of the ea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me countrie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zi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>
            <a:off x="6227640" y="2205000"/>
            <a:ext cx="2376720" cy="13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Times New Roman"/>
              </a:rPr>
              <a:t>cr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84720" y="4076640"/>
            <a:ext cx="251964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You have 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phone cal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58770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8172360" y="588636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0" y="0"/>
          <a:ext cx="9144000" cy="6599160"/>
        </p:xfrm>
        <a:graphic>
          <a:graphicData uri="http://schemas.openxmlformats.org/drawingml/2006/table">
            <a:tbl>
              <a:tblPr/>
              <a:tblGrid>
                <a:gridCol w="2286000"/>
                <a:gridCol w="3809880"/>
                <a:gridCol w="304812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Mean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stu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untr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32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y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king one’s hea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No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king one’s hea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er countr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92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er countr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30" name=""/>
          <p:cNvSpPr/>
          <p:nvPr/>
        </p:nvSpPr>
        <p:spPr>
          <a:xfrm>
            <a:off x="6025320" y="838080"/>
            <a:ext cx="329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Bulgaria, par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of Greece, Ir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8400" y="3048120"/>
            <a:ext cx="15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F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13160" y="3657600"/>
            <a:ext cx="148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Russ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554920" y="3284640"/>
            <a:ext cx="320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Kiss on the che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54920" y="4149720"/>
            <a:ext cx="332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A firm handsh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554560" y="4797360"/>
            <a:ext cx="239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A loving h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336760" y="5657760"/>
            <a:ext cx="38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A bow/ a nod of h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98560" y="199692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02560" y="3962520"/>
            <a:ext cx="140148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Gre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fri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-468360" y="4626000"/>
            <a:ext cx="2521080" cy="22320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5292720" y="4194000"/>
            <a:ext cx="2521080" cy="26640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7308720" y="3713040"/>
            <a:ext cx="2592360" cy="31449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3635280" y="4265640"/>
            <a:ext cx="1943280" cy="25923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5"/>
          <a:stretch/>
        </p:blipFill>
        <p:spPr>
          <a:xfrm>
            <a:off x="1979640" y="4552920"/>
            <a:ext cx="1440000" cy="2305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6227640" y="6400800"/>
            <a:ext cx="334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39640" y="1197000"/>
            <a:ext cx="82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smile can open doors and tear down wall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63640" y="278136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微笑能敲开大门，拆除围墙（化解矛盾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40464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Everyday Engl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284720" y="2637000"/>
            <a:ext cx="3048120" cy="37335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1066680" y="3200400"/>
            <a:ext cx="1193760" cy="210024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 flipV="1">
            <a:off x="2124000" y="2852640"/>
            <a:ext cx="914400" cy="6098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1280" y="134136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Bulgaria, parts of Greece, and Ir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9080" y="4572000"/>
            <a:ext cx="105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sh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021440" y="4437000"/>
            <a:ext cx="83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n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0872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6156360" y="0"/>
            <a:ext cx="230328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at do they    mean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0920" y="206064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K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124000" y="206064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708360" y="2276640"/>
            <a:ext cx="19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ood Luck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3933720"/>
            <a:ext cx="19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razy/pho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56000" y="422100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 don’t k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640080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ink/Craz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050920" y="64008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fus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564000" y="640080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umber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7921800" y="1052640"/>
            <a:ext cx="1222200" cy="19177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5940360" y="2852640"/>
            <a:ext cx="3203640" cy="40053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"/>
          <a:stretch/>
        </p:blipFill>
        <p:spPr>
          <a:xfrm>
            <a:off x="5796000" y="1052640"/>
            <a:ext cx="1800360" cy="177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00000" y="0"/>
            <a:ext cx="9144000" cy="1557000"/>
          </a:xfrm>
          <a:prstGeom prst="rect">
            <a:avLst/>
          </a:prstGeom>
          <a:gradFill rotWithShape="0">
            <a:gsLst>
              <a:gs pos="0">
                <a:srgbClr val="fff0d9"/>
              </a:gs>
              <a:gs pos="100000">
                <a:srgbClr val="fef9f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9600" spc="-1" strike="noStrike">
                <a:solidFill>
                  <a:srgbClr val="0000ff"/>
                </a:solidFill>
                <a:latin typeface="Times New Roman"/>
              </a:rPr>
              <a:t>Body tal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0053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                      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ea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419640" y="1052640"/>
            <a:ext cx="1944360" cy="2952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8748720" y="0"/>
            <a:ext cx="395280" cy="395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4941720"/>
            <a:ext cx="9144000" cy="947160"/>
          </a:xfrm>
          <a:prstGeom prst="rect">
            <a:avLst/>
          </a:prstGeom>
          <a:gradFill rotWithShape="0">
            <a:gsLst>
              <a:gs pos="0">
                <a:srgbClr val="fef7ec"/>
              </a:gs>
              <a:gs pos="100000">
                <a:srgbClr val="fff7e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Body language can carry meaning , which is an important part of nonverbal communication .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8172360" y="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50920" y="3141720"/>
            <a:ext cx="864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911920"/>
            <a:ext cx="9144000" cy="947160"/>
          </a:xfrm>
          <a:prstGeom prst="rect">
            <a:avLst/>
          </a:prstGeom>
          <a:gradFill rotWithShape="0">
            <a:gsLst>
              <a:gs pos="0">
                <a:srgbClr val="fff3e1"/>
              </a:gs>
              <a:gs pos="50000">
                <a:srgbClr val="fef6ea"/>
              </a:gs>
              <a:gs pos="100000">
                <a:srgbClr val="fff3e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A handshake is the most common gesture that goes with a greeting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800" y="1752480"/>
            <a:ext cx="3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6012000" y="3500280"/>
            <a:ext cx="1608120" cy="360072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1258920" y="3645000"/>
            <a:ext cx="2971800" cy="28954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3124080" y="0"/>
            <a:ext cx="2895840" cy="289548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6019920" y="5105520"/>
            <a:ext cx="89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3141720"/>
            <a:ext cx="19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handsh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506040" y="2819520"/>
            <a:ext cx="167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baby ki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783480" y="2819520"/>
            <a:ext cx="83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h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412240" y="617220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b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994440" y="6497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3429000" y="5943600"/>
            <a:ext cx="685800" cy="51444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5"/>
          <a:stretch/>
        </p:blipFill>
        <p:spPr>
          <a:xfrm>
            <a:off x="6172200" y="0"/>
            <a:ext cx="2590920" cy="266688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6"/>
          <a:stretch/>
        </p:blipFill>
        <p:spPr>
          <a:xfrm>
            <a:off x="0" y="0"/>
            <a:ext cx="2771640" cy="256536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324000" y="2584440"/>
            <a:ext cx="30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Kiss on the ch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niversal body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250920" y="907920"/>
          <a:ext cx="8664480" cy="5675400"/>
        </p:xfrm>
        <a:graphic>
          <a:graphicData uri="http://schemas.openxmlformats.org/drawingml/2006/table">
            <a:tbl>
              <a:tblPr/>
              <a:tblGrid>
                <a:gridCol w="3457440"/>
                <a:gridCol w="5207040"/>
              </a:tblGrid>
              <a:tr h="71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Meaning</a:t>
                      </a: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gestu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I’m tired</a:t>
                      </a: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I’m hungr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5" name=""/>
          <p:cNvSpPr/>
          <p:nvPr/>
        </p:nvSpPr>
        <p:spPr>
          <a:xfrm>
            <a:off x="3726720" y="1557360"/>
            <a:ext cx="437004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Pressing one’s pa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Together and rest one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head on the back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one’s han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780000" y="3706920"/>
            <a:ext cx="45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Moving the hand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circles over the stom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03760" y="4724280"/>
            <a:ext cx="349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Pat one’s stomac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before a m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211640" y="5734080"/>
            <a:ext cx="113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sm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97560" y="3860640"/>
            <a:ext cx="142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I’m fu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65040" y="5959440"/>
            <a:ext cx="374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Almost any e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5791320" y="5638680"/>
            <a:ext cx="1214280" cy="91440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97080" cy="10954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-468360" y="4626000"/>
            <a:ext cx="2521080" cy="223200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5292720" y="4194000"/>
            <a:ext cx="2521080" cy="266400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7308720" y="3713040"/>
            <a:ext cx="2592360" cy="314496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3635280" y="4265640"/>
            <a:ext cx="1943280" cy="25923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1979640" y="4552920"/>
            <a:ext cx="1440000" cy="23050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227640" y="6400800"/>
            <a:ext cx="334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39640" y="1197000"/>
            <a:ext cx="82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smile can open doors and tear down wall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763640" y="278136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微笑能敲开大门，拆除围墙（化解矛盾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40464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Everyday Engl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864800" y="2498760"/>
            <a:ext cx="601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  <a:ea typeface="华文彩云"/>
              </a:rPr>
              <a:t>What can you lear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  <a:ea typeface="华文彩云"/>
              </a:rPr>
              <a:t>        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  <a:ea typeface="华文彩云"/>
              </a:rPr>
              <a:t>from this passag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0644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0" y="6451560"/>
            <a:ext cx="9144000" cy="406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468360" y="2708280"/>
            <a:ext cx="8424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When in Rome, do as the Romans do</a:t>
            </a:r>
            <a:r>
              <a:rPr b="0" i="1" lang="zh-CN" sz="3600" spc="-1" strike="noStrike">
                <a:solidFill>
                  <a:srgbClr val="ffff00"/>
                </a:solidFill>
                <a:latin typeface="Arial"/>
              </a:rPr>
              <a:t>！</a:t>
            </a:r>
            <a:r>
              <a:rPr b="1" i="1" lang="zh-CN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255480" y="407664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（入乡随俗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3348000" y="1341360"/>
            <a:ext cx="1800360" cy="952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9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1835280" y="404640"/>
            <a:ext cx="4897440" cy="173844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543960" y="2463840"/>
            <a:ext cx="6755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ontrast between the bod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language in China and that i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the U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327480" y="642960"/>
            <a:ext cx="282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99"/>
                </a:solidFill>
                <a:latin typeface="Times New Roman"/>
              </a:rPr>
              <a:t>Task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2843280" y="4952880"/>
            <a:ext cx="3166920" cy="190512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0" y="4952880"/>
            <a:ext cx="2805120" cy="190512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4"/>
          <a:stretch/>
        </p:blipFill>
        <p:spPr>
          <a:xfrm>
            <a:off x="6012000" y="4952880"/>
            <a:ext cx="3132000" cy="190512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5" name=""/>
          <p:cNvGraphicFramePr/>
          <p:nvPr/>
        </p:nvGraphicFramePr>
        <p:xfrm>
          <a:off x="324000" y="620640"/>
          <a:ext cx="8208720" cy="6228000"/>
        </p:xfrm>
        <a:graphic>
          <a:graphicData uri="http://schemas.openxmlformats.org/drawingml/2006/table">
            <a:tbl>
              <a:tblPr/>
              <a:tblGrid>
                <a:gridCol w="2232000"/>
                <a:gridCol w="3095640"/>
                <a:gridCol w="2881080"/>
              </a:tblGrid>
              <a:tr h="139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eaning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Gesture in the  U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Gesture in China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, don’t do tha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oving the index finger from side to sid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don’t know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hrugging one’s shoulder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ll don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humbs up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credible. I can’t believe i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olling one’s eyes.</a:t>
                      </a: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6" name=""/>
          <p:cNvSpPr/>
          <p:nvPr/>
        </p:nvSpPr>
        <p:spPr>
          <a:xfrm>
            <a:off x="212040" y="44280"/>
            <a:ext cx="27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99"/>
                </a:solidFill>
                <a:latin typeface="Monotype Corsiva"/>
              </a:rPr>
              <a:t>Comparison </a:t>
            </a: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643720" y="2054160"/>
            <a:ext cx="2859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Moving the h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from side to si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641200" y="3595680"/>
            <a:ext cx="28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Shaking the h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54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742000" y="5484960"/>
            <a:ext cx="241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Open one’s eye 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Mouth wi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679840" y="5738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851080" y="4724280"/>
            <a:ext cx="199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Thumbs up</a:t>
            </a:r>
            <a:r>
              <a:rPr b="1" lang="en-US" sz="2000" spc="-1" strike="noStrike">
                <a:solidFill>
                  <a:srgbClr val="cc0066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7956720" y="0"/>
            <a:ext cx="1187280" cy="112536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8381880" y="6286680"/>
            <a:ext cx="762120" cy="571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6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6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6095880" y="0"/>
            <a:ext cx="3048120" cy="100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6" name=""/>
          <p:cNvGraphicFramePr/>
          <p:nvPr/>
        </p:nvGraphicFramePr>
        <p:xfrm>
          <a:off x="250920" y="692280"/>
          <a:ext cx="8642160" cy="5727600"/>
        </p:xfrm>
        <a:graphic>
          <a:graphicData uri="http://schemas.openxmlformats.org/drawingml/2006/table">
            <a:tbl>
              <a:tblPr/>
              <a:tblGrid>
                <a:gridCol w="2160360"/>
                <a:gridCol w="2952720"/>
                <a:gridCol w="35290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eaning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Gesture in the  U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Gesture in China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ne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Microsoft Sans Serif"/>
                          <a:ea typeface="楷体_GB2312"/>
                        </a:rPr>
                        <a:t>Rubbing the thumb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Microsoft Sans Serif"/>
                          <a:ea typeface="楷体_GB2312"/>
                        </a:rPr>
                        <a:t>and forefinger toget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az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Microsoft Sans Serif"/>
                        </a:rPr>
                        <a:t>Moving the index finger in a circle in front of the ear</a:t>
                      </a: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Microsoft Sans Serif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od lu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Microsoft Sans Serif"/>
                        </a:rPr>
                        <a:t>Cross the finger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e 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Microsoft Sans Serif"/>
                        </a:rPr>
                        <a:t>Moving the index finger forwards and backward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7" name=""/>
          <p:cNvSpPr/>
          <p:nvPr/>
        </p:nvSpPr>
        <p:spPr>
          <a:xfrm>
            <a:off x="-3960" y="112680"/>
            <a:ext cx="27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99"/>
                </a:solidFill>
                <a:latin typeface="Monotype Corsiva"/>
              </a:rPr>
              <a:t>Comparison </a:t>
            </a: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135840" y="2209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255840" y="5954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141520" y="1790640"/>
            <a:ext cx="380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Microsoft Sans Serif"/>
              </a:rPr>
              <a:t>Rubbing the thum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Microsoft Sans Serif"/>
              </a:rPr>
              <a:t>and forefinger toge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089320" y="3292560"/>
            <a:ext cx="420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Microsoft Sans Serif"/>
              </a:rPr>
              <a:t>Moving the index finger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Microsoft Sans Serif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Microsoft Sans Serif"/>
              </a:rPr>
              <a:t>a circle from side to si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543640" y="4208400"/>
            <a:ext cx="29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Microsoft Sans Serif"/>
              </a:rPr>
              <a:t>No such a ges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050800" y="4952880"/>
            <a:ext cx="416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Microsoft Sans Serif"/>
              </a:rPr>
              <a:t>Moving one’s hand up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Microsoft Sans Serif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Microsoft Sans Serif"/>
              </a:rPr>
              <a:t>down with the p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Microsoft Sans Serif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Microsoft Sans Serif"/>
              </a:rPr>
              <a:t>facing d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8381880" y="6286680"/>
            <a:ext cx="762120" cy="571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3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763120" cy="68580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376200" y="1143000"/>
            <a:ext cx="8486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Times New Roman"/>
              </a:rPr>
              <a:t>Goodbye, everyone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1692360" y="1268280"/>
            <a:ext cx="6400800" cy="4038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1400760" y="5300640"/>
            <a:ext cx="682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rab countries, you eat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using the fing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r right hand; the left hand is not used at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04292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re anything wrong in the pictur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50920" y="333360"/>
            <a:ext cx="3745080" cy="6524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732720" y="3284640"/>
            <a:ext cx="151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5148360" y="3284640"/>
            <a:ext cx="2303280" cy="720720"/>
          </a:xfrm>
          <a:prstGeom prst="wedgeRoundRectCallout">
            <a:avLst>
              <a:gd name="adj1" fmla="val 52824"/>
              <a:gd name="adj2" fmla="val 4801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um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43280" y="1413000"/>
            <a:ext cx="2737080" cy="863640"/>
          </a:xfrm>
          <a:prstGeom prst="wedgeEllipseCallout">
            <a:avLst>
              <a:gd name="adj1" fmla="val -46518"/>
              <a:gd name="adj2" fmla="val 99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ex fi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\forefi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4360" y="0"/>
            <a:ext cx="2448000" cy="981000"/>
          </a:xfrm>
          <a:prstGeom prst="cloudCallout">
            <a:avLst>
              <a:gd name="adj1" fmla="val -44291"/>
              <a:gd name="adj2" fmla="val 700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ddle fi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63640" y="549360"/>
            <a:ext cx="1656000" cy="934920"/>
          </a:xfrm>
          <a:prstGeom prst="flowChartMagneticTap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ng fi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16000" y="2205000"/>
            <a:ext cx="1871640" cy="1079640"/>
          </a:xfrm>
          <a:custGeom>
            <a:avLst/>
            <a:gdLst>
              <a:gd name="textAreaLeft" fmla="*/ 234000 w 1871640"/>
              <a:gd name="textAreaRight" fmla="*/ 1638000 w 1871640"/>
              <a:gd name="textAreaTop" fmla="*/ 270000 h 1079640"/>
              <a:gd name="textAreaBottom" fmla="*/ 81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ttle fi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re anything wrong in the pictur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6019560" cy="358164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1582920" y="5172120"/>
            <a:ext cx="688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parts of Asia you must not sit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with your fe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pointing 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other per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252720" y="299880"/>
            <a:ext cx="88354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 or 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 Iran, nodding has the meaning of n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 Russia , a visiting friend is greet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ith a kiss on the chee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  France, people greet with each oth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ith a firm handshak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 some countries, people greet each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with a loving hug, a bow 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mply a nod of the hea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6084720" y="2781360"/>
            <a:ext cx="733680" cy="76212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6659640" y="5805360"/>
            <a:ext cx="733320" cy="76212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3"/>
          <a:stretch/>
        </p:blipFill>
        <p:spPr>
          <a:xfrm>
            <a:off x="7772400" y="5783400"/>
            <a:ext cx="1371600" cy="10746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4"/>
          <a:stretch/>
        </p:blipFill>
        <p:spPr>
          <a:xfrm>
            <a:off x="7596360" y="0"/>
            <a:ext cx="1476360" cy="10573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5"/>
          <a:stretch/>
        </p:blipFill>
        <p:spPr>
          <a:xfrm>
            <a:off x="5580000" y="3933720"/>
            <a:ext cx="800280" cy="76212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6"/>
          <a:stretch/>
        </p:blipFill>
        <p:spPr>
          <a:xfrm>
            <a:off x="7343640" y="1523880"/>
            <a:ext cx="733680" cy="762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3024360" cy="5300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211640" y="476280"/>
            <a:ext cx="4176720" cy="424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71640" y="522936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l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530064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84360" y="1125360"/>
            <a:ext cx="79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If you want to learn more please look at the following gestures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788000" y="5659560"/>
            <a:ext cx="1439640" cy="1198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7236000" y="548964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0" y="3357720"/>
            <a:ext cx="1908000" cy="17175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3132000" y="3141720"/>
            <a:ext cx="2702160" cy="29480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2556000" y="5524560"/>
            <a:ext cx="1123920" cy="1333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>
            <a:off x="6732720" y="3500280"/>
            <a:ext cx="1346040" cy="1656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2060640"/>
            <a:ext cx="9144000" cy="1373760"/>
          </a:xfrm>
          <a:prstGeom prst="rect">
            <a:avLst/>
          </a:prstGeom>
          <a:gradFill rotWithShape="0">
            <a:gsLst>
              <a:gs pos="0">
                <a:srgbClr val="fff0d9"/>
              </a:gs>
              <a:gs pos="100000">
                <a:srgbClr val="fef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ere are some gestures that are widely used in the English-speaking countries and other countries or places.   Do you know the meanings of the following gesture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6553080"/>
            <a:ext cx="23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cc00"/>
                </a:solidFill>
                <a:latin typeface="Times New Roman"/>
              </a:rPr>
              <a:t>(</a:t>
            </a:r>
            <a:r>
              <a:rPr b="1" lang="en-US" sz="1400" spc="-1" strike="noStrike">
                <a:solidFill>
                  <a:srgbClr val="00cc00"/>
                </a:solidFill>
                <a:latin typeface="Times New Roman"/>
              </a:rPr>
              <a:t>Wait/Slowly/Impoli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19640" y="5157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Play the finger-guessing g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59575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057400" y="1371600"/>
            <a:ext cx="5349960" cy="29113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828800" y="4572000"/>
            <a:ext cx="56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 handsha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62320" y="525780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--- 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welcome / </a:t>
            </a:r>
            <a:r>
              <a:rPr b="1" i="1" lang="en-GB" sz="4000" spc="-1" strike="noStrike">
                <a:solidFill>
                  <a:srgbClr val="ff0000"/>
                </a:solidFill>
                <a:latin typeface="Times New Roman"/>
              </a:rPr>
              <a:t>goodby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438280" y="1523880"/>
            <a:ext cx="4114800" cy="51055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rcRect l="0" t="0" r="-1611" b="-1582"/>
          <a:stretch/>
        </p:blipFill>
        <p:spPr>
          <a:xfrm>
            <a:off x="1066680" y="0"/>
            <a:ext cx="6934320" cy="16002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429000" y="228600"/>
            <a:ext cx="313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Gues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24480" y="1371600"/>
            <a:ext cx="2548080" cy="1523880"/>
          </a:xfrm>
          <a:prstGeom prst="cloudCallout">
            <a:avLst>
              <a:gd name="adj1" fmla="val -106509"/>
              <a:gd name="adj2" fmla="val 38231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3429000" y="-457200"/>
            <a:ext cx="2381400" cy="1600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438280" y="1523880"/>
            <a:ext cx="4191120" cy="51055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rcRect l="0" t="0" r="-1611" b="-1582"/>
          <a:stretch/>
        </p:blipFill>
        <p:spPr>
          <a:xfrm>
            <a:off x="1066680" y="0"/>
            <a:ext cx="6934320" cy="1600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582720" y="304920"/>
            <a:ext cx="189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Gues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595920" y="990720"/>
            <a:ext cx="2548080" cy="1523880"/>
          </a:xfrm>
          <a:prstGeom prst="cloudCallout">
            <a:avLst>
              <a:gd name="adj1" fmla="val -117166"/>
              <a:gd name="adj2" fmla="val 63231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3429000" y="-380880"/>
            <a:ext cx="2381400" cy="1600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htfpc user</cp:lastModifiedBy>
  <dcterms:modified xsi:type="dcterms:W3CDTF">2004-06-01T01:33:49Z</dcterms:modified>
  <cp:revision>103</cp:revision>
  <dc:subject/>
  <dc:title>PowerPoint Presentation</dc:title>
</cp:coreProperties>
</file>